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728-A3CF-430E-84C8-BA0E74DE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DC0-4236-4715-B1E8-FE6F0939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17C-443E-4352-942A-7A0F444F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BA6-1906-4232-B66C-3E3EC958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5AAC-88D8-430E-9DF2-A44BA040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3188-CEBB-46A8-836E-7450D6FA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5D8E-C287-4244-A069-724D048D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F460-708F-49A5-A90D-AE05A54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8238-CB19-4DC3-87EB-DC41ABE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E2AB-F9BB-4233-BD99-82E402FE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E31A-1FF5-47C7-94D5-361A8DC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59A-D489-4ABE-9349-9ADC2F2B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C1E1-3653-4859-8095-421029B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C7DE-80FF-42BE-821B-B9C03CE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BA53-4859-41D9-B702-7FD2E531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E794-63B7-41E2-8024-9A488C3B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8E14-68A2-4741-801E-5AE31214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71B-716E-4772-8422-412255D0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BC3-ACF0-40D8-93A6-A60327D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98C-FD26-46F5-8AF6-BD19097D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ECD-EA1C-4227-9B63-CA41E31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7DD-7E86-43F3-97E8-E2D13A7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566-3B65-4C8E-BD2C-EC36D451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E67-28A9-413B-82C8-83678C7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D139-BAE1-4599-9BA4-8398F802F5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0969-CA78-4DAE-9AB0-54867BE25E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Writing 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ham Writing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D. He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by Karen M Ad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Ten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ice you use to designate the time of the action or state of b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lore Your Topic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writing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/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/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ke a Pla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you begin drafting your essay, you should make a plan (a roadma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, evaluate, and organize ideas written in your pre-writing; then make a plan for your essa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sis Stat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sis stat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the MAIN IDEA of your essay, the central point that your essay develops/sup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sis continued. .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esis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ly predict your essay’s direction, emphasis, an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no promises that the essay will not fulf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direct and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be an announcement, statement of opinion, or statement of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po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341360"/>
            <a:ext cx="64008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evaluate the information in your prewriting carefully in order to choos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port for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upport—major ideas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back up your ma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upport—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further explain your primar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port continued. .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023560"/>
            <a:ext cx="6400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s of goo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s to mai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s readers, i.e. provides enoug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tailed and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rd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is the sequence in which you present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(chronological)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tic order (order of importance: least-to-most, most-to-l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ructure/Organiz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ow your essay will be organized; then create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utline of standard es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Paragrap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Paragrap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Paragraph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I. Wri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Writing Stage, you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essay’s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 a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ra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whole version of all your ideas put together; it’s a “dress rehearsa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plan to revise your Draft several times throughout the wri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ages of the Writing Proce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stages to the Writing Process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stage is esse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(Draf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eating Your Titl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341360"/>
            <a:ext cx="6400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essay’s tit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reasonab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your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lively and attention-g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t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ould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eneric/repeat th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ALL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ld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“quotation marks,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alic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followed by a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tles, continu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 Rules for Tit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capitalize the first letter of the first word and the last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the first letter of each “important” word in between the first and last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apitalize articles (a, an, t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apitalize coordinating conjunctions (and, but, o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apitalize prepositions (on, at, in, off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ffective vs. Ineffective Titl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:  Cheating i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Tit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ters Never W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ting in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Students Ch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ective Tit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heat for Many Different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ing a Draf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s of a good dra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fully developed introduction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ully developed body paragraphs, each containing a topic sentence, at least two examples, and detail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tandard structure and uses complete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e Your Introdu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39640" y="1341000"/>
            <a:ext cx="649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introductory paragraph should do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minimum of 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audience what to expect from your discussion (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from general to specific, with the thesis as the last sentence in the i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ader’s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tone for the rest of the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, continu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developing an Introduction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backgrou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a personal anecd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a 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 op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ing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e Your Body Paragraph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7920" y="1233360"/>
            <a:ext cx="6526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ody paragraph should develop one of the specific points mentioned in the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P should con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Sentence—main idea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upport—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upport—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Body Paragraphs: Topic Sentenc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es the main idea of the body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each body paragraph with a Topic Sentenc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s the focus of the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ly predicts the direction of the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back to the 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ody Paragraphs continu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agraphs must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everything refers back to mai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examples 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ll points connect to form a whole; one point leads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Body Paragraphs: Unity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chieved when everything refers back to the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NTENCES SHOULD RELATE BACK TO TOPIC SENTENCE &amp; 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any ideas that are irrelevant or off-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. Prewri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/narrow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of-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Body Paragraphs: Support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chieved through adequate examples and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ody paragraph should include at least two examples to support the main idea of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xample should include at least one specific detail that further illustrates th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ody Paragraphs: Coheren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er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chieved when all points connect to form a whole; one point leads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is mainly achieved through the use of tran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ords &amp; phrases which connect your sentences so that your writing flows smooth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rite Your Conclu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484280"/>
            <a:ext cx="6400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luding paragraph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a minimum of 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back to the main point, but not simp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observation on what is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troduce any new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ense of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II. Revis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4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vi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inding &amp; correcting problem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hanging the ideas in your writing to make them clearer, stronger, and more convin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 looks at the “Big Picture”—the Idea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vision Strateg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verything refer back to main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ach topic sentence refer to the th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ach sentence in each BP refer back to the topic sent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 and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each BP contain at least two examp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ach example followed by at least one supporting detai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l points connect to form a who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ransitions used to move from one idea to the nex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6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6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6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6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6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6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6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6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6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6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6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6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6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6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6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6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6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6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6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6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vision Tip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break from your draft before attempting to rev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draft out loud and listen to your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rself as your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consistent problem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eedback from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help from a tut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V. Edi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d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inding and correcting problems with grammar, style, word choice &amp; usage, and punc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ing focuses on the “Little Picture”—Word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diting Strateg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rror 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help you identify your problem areas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rove your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editing, review your paper for one type of error at a time; don’t try to read through looking for everything a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diting Tip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 clean printed copy, double-spaced to allow room to mark cor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essay back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utious of spell-check and grammar-ch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our essay out 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eedback from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 tut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77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9" dur="77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3" dur="77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77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2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4" dur="77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77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1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3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5" dur="77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77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77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4" dur="77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6" dur="77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77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3" dur="77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5" dur="77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7" dur="77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lf-Re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ever move to peer review without first completing a self-review (revising &amp; editing); you want your peer to look for mistakes that you were unable to catch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have reviewed your own work, make the necessary corrections and print a clean, revised copy before moving on to peer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hoose/Narrow Your Topic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pic should pass the 3-question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interest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 have something to sa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specif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er-Re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make the peer review process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s of useful feedb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iven in a posi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offers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iven both verbally and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D. H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ed by Karen M. Adr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Your Audien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d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osed of those who will read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my r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my readers know about my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my readers need to know about my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y readers feel about my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dience continued. .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304640"/>
            <a:ext cx="64008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my readers ex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Writte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grammar and sp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presenta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directions of the assignmen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length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y time lim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assignment consist 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search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ormat should be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Your Purpo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eason you ar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you write, yo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ways have a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Most writing fits into one of 3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ua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one of these may be used, but one will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Ton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ood or attitude you adopt as you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or frivolous/humor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imate or detac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termine Point-of-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413000"/>
            <a:ext cx="64008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int-of-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erspective from which you write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points-of-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erson—”I, w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person—”yo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person—”he, she, the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common errors in writing occurs when the writer shifts point-of-view unnecessari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7:22:09Z</dcterms:created>
  <dc:creator/>
  <dc:description/>
  <dc:language>en-US</dc:language>
  <cp:lastModifiedBy>Mobile Student</cp:lastModifiedBy>
  <dcterms:modified xsi:type="dcterms:W3CDTF">2011-12-20T17:49:1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